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914-0E6F-45EF-BBEA-6A65F541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B05-8754-4577-899F-66B9F999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521-59AD-4D9E-9FAB-EAA4FA1D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803-58B1-4448-AE9B-87DF5E5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24F45-8F8B-479E-B6EC-FE0418A6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0F788-F26A-45F7-8895-74A5E224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241C7-E2AC-41D2-96CE-7501827B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C20E3-1558-485F-BDB4-F4E3A86D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DAC78-BB90-4AB5-A4FD-0621ABB7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96519-6888-411E-9E0C-219EDAE0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3D78A-03BF-4CF4-9510-CE847233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602-C48A-4484-908E-C20AF5AF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8A74E-811A-44A7-89EE-E2BA5B3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AB977-68DE-4CB9-9903-E41B79C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AEBFD-77F7-41FA-91C6-88FF8DD6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3D696-1F56-4F96-B118-36A77976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D9961-722D-45D2-8BC4-08FFFF0F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CD3-0F56-4A0D-9FB9-DEAEFF65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D8A-B70C-4EFD-9B8A-0A236792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93A-EFC7-460D-AFC1-0371D300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858-5404-436A-8DA3-1073EE1A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EBC-46BB-4CA6-9C84-7985A07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B9B-8FE3-49FD-BAFF-DE03CBC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8E3-7F20-4E65-BDFD-2F738A0E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CD75-D808-44E1-BCCE-C52E6069C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1FD7-E1BB-4A04-87C5-9D2307836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ssion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ereotyp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1523880" y="205740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ereotyping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 judge or label a group of people based on appearance or rum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630720" y="60199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f-fulfilling Prophec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coming what others expect by believing their judg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Mcadwell</cp:lastModifiedBy>
  <dcterms:modified xsi:type="dcterms:W3CDTF">2011-01-31T23:42:59Z</dcterms:modified>
  <cp:revision>18</cp:revision>
  <dc:subject/>
  <dc:title>Project TND  (Project Towards No Drug Abuse)</dc:title>
</cp:coreProperties>
</file>